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037-81C4-460B-9E81-BF16D6056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02B2-0350-407D-8136-A2F8638F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827C-709D-4FDC-B2E5-79619E21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F19C-C60A-415F-B176-1AA9A285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E517-2057-48E0-AD84-D2CF1F3F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112-46F2-40A8-AC4C-FF3B8290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1692-83A5-478B-BE56-9A94E3E1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CF5F-245D-419D-B2B2-DB1DDA97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EEAE-DD25-42B5-B973-E3A06BE2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906A-924D-4878-9A06-0A65224F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6108F8C-B676-4D1E-86D5-0492D4569FF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1196004-676B-48FE-8CFD-79C3E129AA20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4E8FC7-4109-4891-8CF5-8E27CFA8269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7853EA9-A2AA-453D-9FC0-97CF1BAEE168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C3EE3E-2F12-4199-A338-B77D2CC5F75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6EEA47-1283-41A5-9D3B-0ECD3283E51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2978AED-B75B-4CC8-9BA7-D150ED680ECA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BD2867-C7E7-4DA4-8B28-E96C81E0E76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5762160"/>
            <a:ext cx="87660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rganizing your Digital Sp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create folders to organize you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reate subfolders to keep information neat and easy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/Folders should be named something that is easy to remember and represents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DD0A648-D9D1-440F-B15B-320C1D749E0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360" y="1514520"/>
            <a:ext cx="3771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ndows V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window by resizing out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um 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name of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914720" y="1569960"/>
            <a:ext cx="3771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ndows 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y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window by resizing out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umb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, New,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name of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987480" y="6245280"/>
            <a:ext cx="769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269ABA1-AA47-4AB9-B56B-62CE3B2A4FE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leting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903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s 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ete, answer Yes to send to recycle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91472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indows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s button &amp; select specific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Delete, Yes send to recycle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987480" y="6245280"/>
            <a:ext cx="769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D3D3E79-8B3D-49BA-B120-EB5F0ADDA13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lete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6972106-739F-4E55-9089-A1DB822583CE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990720" y="1792440"/>
            <a:ext cx="7696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naming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903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s 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1472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indows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s from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Rename in File &amp; Folders Task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987480" y="6245280"/>
            <a:ext cx="769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on  6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69BD132-DA1D-4D44-8B51-C74A8C39162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name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C6DAB20-953F-468E-9F12-0F5173011698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1703520" y="1600200"/>
            <a:ext cx="627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e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nd 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and pa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550D9F3-C436-4AF7-8AC0-599A76EAB333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1366920" y="2816280"/>
            <a:ext cx="7013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py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907920" y="1600200"/>
            <a:ext cx="777888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w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9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95628EE-757F-4C18-9A75-366C8D5BACC8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ile"/>
          <p:cNvSpPr/>
          <p:nvPr/>
        </p:nvSpPr>
        <p:spPr>
          <a:xfrm>
            <a:off x="4314960" y="4454640"/>
            <a:ext cx="1490400" cy="1119240"/>
          </a:xfrm>
          <a:custGeom>
            <a:avLst/>
            <a:gdLst>
              <a:gd name="textAreaLeft" fmla="*/ 74880 w 1490400"/>
              <a:gd name="textAreaRight" fmla="*/ 1423800 w 1490400"/>
              <a:gd name="textAreaTop" fmla="*/ 239760 h 1119240"/>
              <a:gd name="textAreaBottom" fmla="*/ 1051560 h 11192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ile"/>
          <p:cNvSpPr/>
          <p:nvPr/>
        </p:nvSpPr>
        <p:spPr>
          <a:xfrm>
            <a:off x="6977160" y="2763720"/>
            <a:ext cx="1492200" cy="1119240"/>
          </a:xfrm>
          <a:custGeom>
            <a:avLst/>
            <a:gdLst>
              <a:gd name="textAreaLeft" fmla="*/ 74880 w 1492200"/>
              <a:gd name="textAreaRight" fmla="*/ 1425600 w 1492200"/>
              <a:gd name="textAreaTop" fmla="*/ 239760 h 1119240"/>
              <a:gd name="textAreaBottom" fmla="*/ 1051560 h 11192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9"/>
          <p:cNvCxnSpPr/>
          <p:nvPr/>
        </p:nvCxnSpPr>
        <p:spPr>
          <a:xfrm flipV="1">
            <a:off x="5994360" y="3903120"/>
            <a:ext cx="799200" cy="727560"/>
          </a:xfrm>
          <a:prstGeom prst="straightConnector1">
            <a:avLst/>
          </a:prstGeom>
          <a:ln w="38160">
            <a:solidFill>
              <a:srgbClr val="b6dcd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4T13:54:00Z</dcterms:modified>
  <cp:revision>53</cp:revision>
  <dc:subject/>
  <dc:title>Slide 1</dc:title>
</cp:coreProperties>
</file>